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BE17-EA94-4F17-A023-ACA6D5078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77EF-0AB8-44B8-BB1B-D857E7055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3E3-6F7D-47C4-AEB2-C5B74224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A4B-8CC9-4023-8E74-2007D001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069-3642-4791-8840-254260E3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719-A5FC-49D1-9460-C0D7DE07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AC4-15D5-447F-8EEF-BD256C3C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FE3-72BE-417E-A61D-241A2E9B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5D5-6D8F-4CDD-8600-55D2FE59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52B-CE14-4681-AB6D-A807EBBD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5DA-12E5-4B64-9CFF-41D0B5DD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D92-71AE-401A-A2FC-2E88FD54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5A8-8182-4123-8D47-4674435B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CFB-1340-4378-9DB0-2129BD5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E191-4642-4195-B728-6A019BBFB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8:27:01Z</dcterms:modified>
  <cp:revision>103</cp:revision>
  <dc:subject/>
  <dc:title>Profile</dc:title>
</cp:coreProperties>
</file>